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1F8D-D08E-47F9-807D-63C4C6FAE2EB}" type="datetime">
              <a:rPr b="0" lang="zh-CN" sz="1200" spc="-1" strike="noStrike">
                <a:solidFill>
                  <a:srgbClr val="000000"/>
                </a:solidFill>
                <a:latin typeface="Arial"/>
                <a:ea typeface="宋体"/>
              </a:rPr>
              <a:t>26/7/28</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190B6-20E1-4DB3-9DD0-12D3DD71429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C4D2-F2C4-4AE8-8E65-972FECEBFC81}"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8F3D-3869-417E-8587-68E6A3AFA78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E4EC-BB3E-4B82-9DAF-057F58A5C73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2532-8537-4304-814A-FD340D63F7B8}"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0228-848F-4591-B8FA-EA585AE3EAAB}"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D1DA-5A45-4054-AEF1-94547810CD77}"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84F9-F977-4E92-9FC1-8783BCE1FCA4}"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A98F-92F7-4216-8565-911EB0E1874B}"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1738-C4EA-4320-8969-5FB1340E7327}"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3C4A-651F-4E01-93AD-6C505F7C2E7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7DDF68-C2CF-455C-BDAC-741B0152B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51D9D5-9D11-40B4-A568-96EDDE58B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243029-1EA2-4C8C-AA55-8058ACA3F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D03DA5-450B-4C90-A954-7B9E1746D7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0D9A83-ED8C-4928-83DD-CDF7495F2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105445-3DF3-43A0-8CF6-25FEF4436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70822-5BDD-433F-804F-108E8018C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B62D5-6A11-4D45-BA56-FB86A54AF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6E9F4-FE71-42C2-AB7B-B1E4B0A4D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9DCE7E-FA96-4161-96E6-E9479C27E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C7D097-70BE-4D7E-9042-03F132B92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A9077B-1D90-4FD5-B511-440393E75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EA7CB-835B-42FE-A97E-AAADA9636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6AEE6F-B8C1-413B-8DA4-B2EDC4E98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8F687-4DA9-4DA6-8F25-04C647460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2B070C-EEFB-4E45-8675-B63903916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9564D6-4473-40D3-BB4F-DDEA923C72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551271-6CB8-403A-BB5C-CCD8BA5864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691E0C-D8F5-47FD-A301-04003B2B5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5D2409-6637-4D51-81F9-0282DA034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85DEB5-5741-4FF0-A074-ADE59B233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9871AF-D596-48C8-9D81-ED08C88D5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603E88-F63F-45CF-9AAA-E42E2A8A2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075C8B-AEB0-4570-8F28-CA41EC912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C6C6-7533-4BCF-9186-D5062D6DAB2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C55D-BA04-42DF-9DA2-3554C2D2AB1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